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800" y="-504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963600" y="-504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1800" y="881820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3963600" y="881820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CED9132-26B8-467C-88AE-546AB43CAED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862000" y="8840880"/>
            <a:ext cx="12740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EE14C413-0E88-413E-BAB1-D936ACF0ED91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188720" y="704880"/>
            <a:ext cx="4621320" cy="346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31680" y="440640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534F42E-26D5-4FC2-8A3D-DC2E7A79C176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763C4CC-7E80-487C-95BD-B9365E782037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701EA15-A5CF-4C5E-9D38-4AE9AF07EDAD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1BA893B-616E-4C2B-86AD-14B98ACA4E0F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640" y="6566040"/>
            <a:ext cx="18097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236840" y="6567480"/>
            <a:ext cx="754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uly 200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460840" y="6564240"/>
            <a:ext cx="36831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Introduction to Personal Process - Module 1 - </a:t>
            </a:r>
            <a:fld id="{2D300912-331A-4CD0-8474-259CFAB71887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3496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995400" y="4967280"/>
            <a:ext cx="7313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4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992160" y="7048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238280" y="6567480"/>
            <a:ext cx="754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uly 200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292720" y="6564240"/>
            <a:ext cx="3841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Introduction to Personal Process - Module 1 - </a:t>
            </a:r>
            <a:fld id="{735DAF8C-AB8F-4305-819C-F38C22D52215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913320" y="66816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9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996840" y="1252440"/>
            <a:ext cx="778032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Introduction to Personal Process</a:t>
            </a:r>
            <a:endParaRPr b="0" lang="en-US" sz="3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500" spc="-1" strike="noStrike">
                <a:solidFill>
                  <a:srgbClr val="39536b"/>
                </a:solidFill>
                <a:latin typeface="Arial Narrow"/>
              </a:rPr>
              <a:t>Module 5: Planning II - Estimating</a:t>
            </a:r>
            <a:br>
              <a:rPr sz="5400"/>
            </a:b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036800" y="3225960"/>
            <a:ext cx="73152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Principles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ing accuracy improves when you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reak a product down into part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each part separate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chieve a balance between over- and under-estimating on the par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reason that the estimates become accurate is that with a balance of over- and under-estimates, the errors tend to cancel each other ou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: Estimating in Detail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ppose that you need to estimate the size of a design document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r historical data shows that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ctual sizes have been within ± 50% of your estim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tend to have a balance between under- and over- estim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rst, you estimate the design document as a whole at 50 pages.  Based on your estimating experience, the actual size should be somewhere between 25 and 75 pag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: Estimating in Detail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ext, you decide to estimate the design document in part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break the document into 4 parts and estimate each part separate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rt 1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0 pag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rt 2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8 pag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rt 3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4 pag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rt 4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0 pag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size estimate totals 62 pag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is the accuracy? That is, within what range around 62 do you expect the actual size to b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: Estimating in Detail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nce your past estimating experience shows that you tend to have a balance between over- and under-estimates, you would expect that a couple of the parts are over-estimated and a couple may be under-estimated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hat case, the errors will tend to cancel each other, and the error for the total estimate will be less than the sum of the individual erro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some simple mathematics, you can calculate the range around your estimate within which the actual value should fall, based on your past estimating experien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: Estimating in Detail -4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pply your past experience of having the actual size be within ± 50% of your estimates to the estimates for the pa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rt 1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0 page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±10 pag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rt 2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8 page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±  4 pag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rt 3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4 page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±  7 pag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rt 4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0 page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±10 pag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ile the total size estimate is the sum of the individual estimates, the error range for the total is not the sum of the individual rang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: Estimating in Detail -5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rror range for the total estimate is the square root of the sum of the squares of the individual rang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1157400" y="2732040"/>
                <a:ext cx="6045120" cy="330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ange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7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e>
                      <m:e/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)</m:t>
                            </m:r>
                          </m:e>
                        </m:rad>
                      </m:e>
                      <m:e/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ccuracy of the Estimat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017360" y="1709640"/>
            <a:ext cx="7413480" cy="459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" name="Object 4"/>
          <p:cNvGraphicFramePr/>
          <p:nvPr/>
        </p:nvGraphicFramePr>
        <p:xfrm>
          <a:off x="252360" y="1486080"/>
          <a:ext cx="8431200" cy="5079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2360" y="1486080"/>
                    <a:ext cx="843120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Goal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bjective of estimating is to become consist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the variability of your estim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chieve a balance between under- and over-estim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become consistent at estimating, you must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a defined proces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llect and use historical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acti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n Estimating Problem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ppose that you wanted to estimate how long it would take to write a report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have data on a couple of reports you have written recent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tal pag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tal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umber of chapt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umber of pages per chapt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could you proceed in making your estimat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n Estimating Problem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had an estimate for the number of pages in the report, you could estimate the development time by using your average productivity from the earlier repo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can you estimate the number of pages from the report requirement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3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Size Directl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e way to estimate the report size would be to estimate the whole report at once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could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are the requirements for this report to previous report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your historical data to guide your estim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all our earlier discussion of estimate accuracy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accuracy are you likely to achiev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Size with Par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other approach would be to break the report into parts and estimate the size of the pa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could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reate a chapter outlin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the size of each chapt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 up the estimates for the chapt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is the accuracy for this estimate likely to compare with the first approach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hoosing the Estimating Method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report is just a chapter or two, directly estimating size would probably suffi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report is more than a chapter or two, breaking the report into chapters and estimating the size of each chapter would result in a more accurate estim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next slides illustrate how to estimate with pa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ize Estimating Method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ider the following situation. You and your spouse decide to build your dream house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go to a contractor to get some idea of what it will cost. The contractor tells you that they estimate cost based on the size of the house measured in square feet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and your spouse don’t visualize your dream house in terms of square feet, but in terms of the rooms you wa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ontractor has some data on room sizes and suggests that you use the data to estimate the size of your dream hou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ntractor’s Room Size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95" name="Object 4"/>
          <p:cNvGraphicFramePr/>
          <p:nvPr/>
        </p:nvGraphicFramePr>
        <p:xfrm>
          <a:off x="1606680" y="1612800"/>
          <a:ext cx="8313480" cy="542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6680" y="1612800"/>
                    <a:ext cx="8313480" cy="54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ize Estimating Method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and your spouse list the rooms for your dream hou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each room, you identify the type of room (e.g., bedroom) and its relative size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ext, you go to the contractor’s room size data and find the size in square feet for each roo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nally, you add up the estimated sizes for all of the rooms in your dream house to come up with an overall size estimate for your dream hou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ream House Size Estimat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055520" y="174744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Room</a:t>
            </a: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Rm type</a:t>
            </a: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Rel size</a:t>
            </a: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Est sq f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ster BR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d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35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ild BR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d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0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ild BR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d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0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uest BR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d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0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ster bath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th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1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ildren’s bath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th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2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uest bath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th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2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itchen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itchen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65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iving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iving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30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amily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iving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40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ning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ning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95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uter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n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0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owder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th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5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tal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71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1" name="Line 1028"/>
          <p:cNvSpPr/>
          <p:nvPr/>
        </p:nvSpPr>
        <p:spPr>
          <a:xfrm>
            <a:off x="696960" y="5952960"/>
            <a:ext cx="750096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Estimating Techniqu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teps for estimating product size are the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reate a conceptual design that breaks the product into pa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Judge the relative size of the pa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historical data to convert the relative sizes into estimates for the pa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 the estimates for the pa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next slides elaborate on this approac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nceptual Desig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reate a conceptual design for the produc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is a preliminary design approach that breaks the product down into an expected set of parts, e.g., chapters for a repor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is produced mainly to make the size estimate; you may change it when you get into the design ph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things that you understand, the conceptual design can be done quick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amp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cument:  chapter outlin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t:  major parts/components needed for buil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izing the Par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Judge the relative size of each par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your judgement to pick a relative size:  small, medium, or larg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ize estimate for the part is taken from the relative size tab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relative size table is created from historical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Project Planning Framework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279520" y="1619280"/>
            <a:ext cx="1397160" cy="58428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Defin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requirement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279520" y="2400480"/>
            <a:ext cx="1397160" cy="65880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Produc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conceptual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design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279520" y="3309840"/>
            <a:ext cx="1397160" cy="58428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Estimat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iz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279520" y="4140360"/>
            <a:ext cx="1397160" cy="58572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Estimat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2279520" y="4973760"/>
            <a:ext cx="1397160" cy="51120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Produc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chedul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2279520" y="5732640"/>
            <a:ext cx="1397160" cy="51084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Develop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4059360" y="5692680"/>
            <a:ext cx="1622160" cy="69876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ize, resource,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chedul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6129360" y="5850000"/>
            <a:ext cx="1025640" cy="51120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4" name="Oval 12"/>
          <p:cNvSpPr/>
          <p:nvPr/>
        </p:nvSpPr>
        <p:spPr>
          <a:xfrm>
            <a:off x="4135320" y="4935600"/>
            <a:ext cx="1428840" cy="696960"/>
          </a:xfrm>
          <a:prstGeom prst="ellipse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availabl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5" name="Oval 13"/>
          <p:cNvSpPr/>
          <p:nvPr/>
        </p:nvSpPr>
        <p:spPr>
          <a:xfrm>
            <a:off x="4135320" y="4087800"/>
            <a:ext cx="1428840" cy="785880"/>
          </a:xfrm>
          <a:prstGeom prst="ellipse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Productiv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6" name="Oval 14"/>
          <p:cNvSpPr/>
          <p:nvPr/>
        </p:nvSpPr>
        <p:spPr>
          <a:xfrm>
            <a:off x="4059360" y="3213000"/>
            <a:ext cx="1527120" cy="787680"/>
          </a:xfrm>
          <a:prstGeom prst="ellipse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iz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1941480" y="1874880"/>
            <a:ext cx="29520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3016080" y="2243160"/>
            <a:ext cx="0" cy="14904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3683160" y="6024600"/>
            <a:ext cx="36972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5689440" y="6013440"/>
            <a:ext cx="43524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 flipV="1">
            <a:off x="6445080" y="3611160"/>
            <a:ext cx="0" cy="224172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 flipH="1">
            <a:off x="5613120" y="3610080"/>
            <a:ext cx="84276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 flipH="1">
            <a:off x="5613120" y="4506840"/>
            <a:ext cx="81108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4" name="Line 22"/>
          <p:cNvSpPr/>
          <p:nvPr/>
        </p:nvSpPr>
        <p:spPr>
          <a:xfrm flipH="1">
            <a:off x="3682800" y="3600360"/>
            <a:ext cx="36972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5" name="Line 23"/>
          <p:cNvSpPr/>
          <p:nvPr/>
        </p:nvSpPr>
        <p:spPr>
          <a:xfrm flipH="1">
            <a:off x="3665160" y="4506840"/>
            <a:ext cx="46044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6" name="Line 24"/>
          <p:cNvSpPr/>
          <p:nvPr/>
        </p:nvSpPr>
        <p:spPr>
          <a:xfrm flipH="1">
            <a:off x="3683160" y="5265720"/>
            <a:ext cx="44280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7" name="Line 25"/>
          <p:cNvSpPr/>
          <p:nvPr/>
        </p:nvSpPr>
        <p:spPr>
          <a:xfrm>
            <a:off x="3016080" y="3151080"/>
            <a:ext cx="0" cy="14940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8" name="Line 26"/>
          <p:cNvSpPr/>
          <p:nvPr/>
        </p:nvSpPr>
        <p:spPr>
          <a:xfrm>
            <a:off x="3016080" y="3984480"/>
            <a:ext cx="0" cy="14940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9" name="Line 27"/>
          <p:cNvSpPr/>
          <p:nvPr/>
        </p:nvSpPr>
        <p:spPr>
          <a:xfrm>
            <a:off x="3016080" y="4818240"/>
            <a:ext cx="0" cy="14904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0" name="Line 28"/>
          <p:cNvSpPr/>
          <p:nvPr/>
        </p:nvSpPr>
        <p:spPr>
          <a:xfrm>
            <a:off x="3016080" y="5575320"/>
            <a:ext cx="0" cy="14904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 flipH="1">
            <a:off x="1906200" y="5986440"/>
            <a:ext cx="33012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2" name="Line 30"/>
          <p:cNvSpPr/>
          <p:nvPr/>
        </p:nvSpPr>
        <p:spPr>
          <a:xfrm>
            <a:off x="5613480" y="5265720"/>
            <a:ext cx="838080" cy="0"/>
          </a:xfrm>
          <a:prstGeom prst="line">
            <a:avLst/>
          </a:prstGeom>
          <a:ln w="12600">
            <a:solidFill>
              <a:srgbClr val="39536b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3" name="Line 31"/>
          <p:cNvSpPr/>
          <p:nvPr/>
        </p:nvSpPr>
        <p:spPr>
          <a:xfrm>
            <a:off x="7151760" y="6039000"/>
            <a:ext cx="40644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4" name="Oval 32"/>
          <p:cNvSpPr/>
          <p:nvPr/>
        </p:nvSpPr>
        <p:spPr>
          <a:xfrm>
            <a:off x="725400" y="1628640"/>
            <a:ext cx="1173240" cy="660600"/>
          </a:xfrm>
          <a:prstGeom prst="ellipse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Customer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need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5" name="Oval 33"/>
          <p:cNvSpPr/>
          <p:nvPr/>
        </p:nvSpPr>
        <p:spPr>
          <a:xfrm>
            <a:off x="725400" y="5665680"/>
            <a:ext cx="1173240" cy="660600"/>
          </a:xfrm>
          <a:prstGeom prst="ellipse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deliver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6" name="Oval 34"/>
          <p:cNvSpPr/>
          <p:nvPr/>
        </p:nvSpPr>
        <p:spPr>
          <a:xfrm>
            <a:off x="7561440" y="5722920"/>
            <a:ext cx="1172880" cy="660240"/>
          </a:xfrm>
          <a:prstGeom prst="ellipse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racking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report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7" name="Rectangle 35"/>
          <p:cNvSpPr/>
          <p:nvPr/>
        </p:nvSpPr>
        <p:spPr>
          <a:xfrm>
            <a:off x="730080" y="3760920"/>
            <a:ext cx="12985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8" name="Rectangle 36"/>
          <p:cNvSpPr/>
          <p:nvPr/>
        </p:nvSpPr>
        <p:spPr>
          <a:xfrm>
            <a:off x="7452720" y="5130720"/>
            <a:ext cx="1470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9" name="Line 37"/>
          <p:cNvSpPr/>
          <p:nvPr/>
        </p:nvSpPr>
        <p:spPr>
          <a:xfrm flipV="1">
            <a:off x="8137440" y="5432040"/>
            <a:ext cx="0" cy="27468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0" name="Line 38"/>
          <p:cNvSpPr/>
          <p:nvPr/>
        </p:nvSpPr>
        <p:spPr>
          <a:xfrm flipH="1">
            <a:off x="6516720" y="5264280"/>
            <a:ext cx="1006560" cy="144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1" name="Line 39"/>
          <p:cNvSpPr/>
          <p:nvPr/>
        </p:nvSpPr>
        <p:spPr>
          <a:xfrm flipV="1">
            <a:off x="1332000" y="2328840"/>
            <a:ext cx="0" cy="143208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2" name="Line 40"/>
          <p:cNvSpPr/>
          <p:nvPr/>
        </p:nvSpPr>
        <p:spPr>
          <a:xfrm flipV="1">
            <a:off x="1332000" y="4138560"/>
            <a:ext cx="0" cy="143208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3" name="Oval 41"/>
          <p:cNvSpPr/>
          <p:nvPr/>
        </p:nvSpPr>
        <p:spPr>
          <a:xfrm>
            <a:off x="5784840" y="1631880"/>
            <a:ext cx="555480" cy="308160"/>
          </a:xfrm>
          <a:prstGeom prst="ellipse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4" name="Rectangle 42"/>
          <p:cNvSpPr/>
          <p:nvPr/>
        </p:nvSpPr>
        <p:spPr>
          <a:xfrm>
            <a:off x="5734080" y="2025720"/>
            <a:ext cx="660240" cy="30780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920" bIns="25920" anchor="ctr">
            <a:noAutofit/>
          </a:bodyPr>
          <a:p>
            <a:pPr algn="ctr"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8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5" name="Rectangle 43"/>
          <p:cNvSpPr/>
          <p:nvPr/>
        </p:nvSpPr>
        <p:spPr>
          <a:xfrm>
            <a:off x="6483240" y="1631880"/>
            <a:ext cx="8290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Item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6" name="Rectangle 44"/>
          <p:cNvSpPr/>
          <p:nvPr/>
        </p:nvSpPr>
        <p:spPr>
          <a:xfrm>
            <a:off x="6483240" y="2006640"/>
            <a:ext cx="879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Task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reating a Relative Size Table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relative size table is constructed using historical data on the size of parts that you have built in the pa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 th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rgest size (maximum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mallest size (minimum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ute the average siz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2517840" y="4446720"/>
                <a:ext cx="417816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erag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z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t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reating a Relative Size Table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maximum, minimum, and average sizes are used to calculate size entries for the relative size tab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1703520" y="2398680"/>
                <a:ext cx="4913280" cy="21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arg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verage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ximum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verage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ediu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verag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mal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verage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verage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nimum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ample: Relative Size Tabl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e following size data for 20 pa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verage = 22.25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(maximum - average)/2  = 8.875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(average - minimum)/2   = 5.125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dium part =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2.25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rge part =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2.25 + 8.875 = 31.125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mall part =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2.25  - 5.125 = 17.125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216" name="Object 5"/>
          <p:cNvGraphicFramePr/>
          <p:nvPr/>
        </p:nvGraphicFramePr>
        <p:xfrm>
          <a:off x="369720" y="2163600"/>
          <a:ext cx="8595000" cy="134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2163600"/>
                    <a:ext cx="859500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6"/>
          <p:cNvGraphicFramePr/>
          <p:nvPr/>
        </p:nvGraphicFramePr>
        <p:xfrm>
          <a:off x="1984320" y="5740560"/>
          <a:ext cx="4846680" cy="857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1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4320" y="5740560"/>
                    <a:ext cx="48466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dditional Commen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r parts must be separated into distinct size grouping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(such as rooms of a house, where baths have a much different size range than bedrooms), you may need to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 the separate type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reate entries in your size table for each typ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Tim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your historical productivity rate to estimate tim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1082520" y="2120760"/>
                <a:ext cx="505332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i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timate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ate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siz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tima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5"/>
              <p:cNvSpPr txBox="1"/>
              <p:nvPr/>
            </p:nvSpPr>
            <p:spPr>
              <a:xfrm>
                <a:off x="1069920" y="3006720"/>
                <a:ext cx="52704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o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s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jec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z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o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s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ject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ultiple Size Measur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each process step has a unique size measure that relates to eff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the size for each ste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the effort for each ste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bine the effort estim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Estimating Without Historical Data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don’t have historical data, you can still use these methods, but you’ll have to use guesses in place of the historical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nce even a little bit of data can improve your estimates, see if you can get some baseline data from someone el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the size table, make your best guess on the sizes of small, medium, and large pa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your best guess on productivit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all but very small products, size estimates should be done by breaking the product down into parts and then estimating the size of the parts using historical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ffort estimates are based 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ze estim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istorical rates for productiv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Exercise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17360" y="174744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will now apply the PSP size and effort estimating methods to calculate a relative size table for writing a boo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are given some historical data on size and time from using a scripted book-writing proces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his exercise, you wi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lculate values for the relative size ta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lculate an overall rate to be used in estimating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Exercise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instructions in the workbook will guide you through the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e exercise, the instructor will review the results with you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4048560" y="4357800"/>
            <a:ext cx="16963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t">
            <a:sp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20 minu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3446640" y="3986280"/>
            <a:ext cx="73008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is module, you wi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estimating princip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how to estimate size and effort using the PSP planning frame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Feedback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ing princip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ing siz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ing eff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Exercise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ercise instruc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the number of M&amp;M’s in container 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rite your estimate here. ________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actual number of M&amp;M’s in container A is _____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4609800" y="3360600"/>
            <a:ext cx="14626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t">
            <a:spAutoFit/>
          </a:bodyPr>
          <a:p>
            <a:pPr>
              <a:lnSpc>
                <a:spcPct val="90000"/>
              </a:lnSpc>
              <a:spcBef>
                <a:spcPts val="825"/>
              </a:spcBef>
              <a:buClr>
                <a:srgbClr val="39536b"/>
              </a:buClr>
              <a:buFont typeface="Arial"/>
              <a:buChar char=" "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1 minu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54" name="Picture 7" descr=""/>
          <p:cNvPicPr/>
          <p:nvPr/>
        </p:nvPicPr>
        <p:blipFill>
          <a:blip r:embed="rId1"/>
          <a:stretch/>
        </p:blipFill>
        <p:spPr>
          <a:xfrm>
            <a:off x="3890880" y="3038400"/>
            <a:ext cx="730440" cy="9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Exercise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w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the number of M&amp;M’s in container B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rite your estimate here _______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actual number of M&amp;M’s in container B is _____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4609800" y="3844800"/>
            <a:ext cx="14626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t">
            <a:spAutoFit/>
          </a:bodyPr>
          <a:p>
            <a:pPr>
              <a:lnSpc>
                <a:spcPct val="90000"/>
              </a:lnSpc>
              <a:spcBef>
                <a:spcPts val="825"/>
              </a:spcBef>
              <a:buClr>
                <a:srgbClr val="39536b"/>
              </a:buClr>
              <a:buFont typeface="Arial"/>
              <a:buChar char=" "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1 minu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3890880" y="3522600"/>
            <a:ext cx="730440" cy="9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Feedback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little data can significantly improve your estimat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historical data on things that you’ve done before, you can quickly make reasonable estimat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is your experience with making estimate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Principle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ing is an uncertain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 one knows what the final size or effort will b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more data you have, the better your estimates are likely to b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arlier the estimate is made, the less is know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ment or other pressures can bias an estim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ing is a skill that must be learned, practiced, and maintain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bility improves with experience and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me people will be better at estimating than oth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22:13:36Z</dcterms:created>
  <dc:creator>Jim Over</dc:creator>
  <dc:description/>
  <cp:keywords/>
  <dc:language>en-US</dc:language>
  <cp:lastModifiedBy>wrn_loc_adm</cp:lastModifiedBy>
  <cp:lastPrinted>2000-01-10T20:53:18Z</cp:lastPrinted>
  <dcterms:modified xsi:type="dcterms:W3CDTF">2018-09-06T00:16:04Z</dcterms:modified>
  <cp:revision>139</cp:revision>
  <dc:subject/>
  <dc:title>No Slide Title</dc:title>
</cp:coreProperties>
</file>